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E44-4DE7-4E2F-9E45-F140180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A79-9793-49C9-A732-E733312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B22-793C-44E7-8A84-62DC4E9D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912-E3C1-4D17-A0C3-107EC95D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CB1D-E07C-4816-B391-281B860B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F6E-493A-43E1-9460-52F262D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5B04-A707-4BB9-A3DC-7CFF3864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55C-2EC6-41DF-9EB7-B87FF4D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C27-0518-4877-B81D-4CE8B7FC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8BEF-83DE-4E18-8AE9-54CCD70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B80-273F-4DFA-B2DD-4D48E54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24E-9DD2-4EAF-ADCE-2C46E264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BCA1-B7F8-40D7-A184-366CD31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2251-F765-4A48-B805-8ADEB4A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274A-210C-40E6-A59F-15A9D99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FCD0-2BE4-4B1B-B181-15182F3F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D1D-FAA2-4CF1-8B7A-FC5D874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FBA-608D-481A-BF94-EF44918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489-5C0C-4188-83C4-5B75D640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ECC-E1AA-4CF1-8642-18F5904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7B6-49CE-4DE2-999C-3C20D4C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D6B-1465-475E-BD0F-4396201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7DE-D091-408B-BFFF-C194F6E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B9A-E12A-4F63-8AFC-6F642EF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OS 2.2, 2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BDBB-4613-4805-B799-FB6B34222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31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33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39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ACOS 2.2, 2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EE0-25F6-4DF4-8B61-271A939110D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rock-hill.k12.sc.us/teachers/NWHS/jvenables/virtualcrimes/lady%20and%20the%20tramp/fingerprintbook6.JP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rock-hill.k12.sc.us/teachers/NWHS/jvenables/virtualcrimes/lady%20and%20the%20tramp/fingerprintbook5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6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4" descr="FINGER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Fingerprint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876560" y="4003560"/>
            <a:ext cx="4259160" cy="110808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asant Valley High Sch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nsic Scien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asis for Fingerprint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Fingerprint is not shared by any two peop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Fingerprint remains unchanged throughout lif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gerprints exhibit general patterns that provide a basis for classification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United States v. Byron C. Mitchell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ennsylvania-199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dmissibility of fingerprint evidence was challeng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defense stated that the fingerprints could not be proven to be unique under the current researc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fter 4 days of hearings, the judge upheld the research on fingerprints and ruled that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Human friction ridges are unique and perman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Human friction ridge skin arrangements are unique and perman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No 2 Identical 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 calculated that there are 64 billion documented that can help to support th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’s calculations were challenged and no matter what formula is used there is the same result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probability for the existence of two identical fingerprint patterns in the world’s population is extremely smal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 90 years of research, no two prints have ever been identica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inutiae Po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KA: Ridge Characteristic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identity, number, and relative location of characteristics that impart individuality of a finger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n easier definition: the ridges and valleys of a finger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re are as many as 150 minutiae points and ridges on the averag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Some Reality of 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SI Lies to You!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rmer CSI from the Gadsden Police Department, Deanna Ric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 have never lifted a complete print at a crime scene. Tell me what criminal is stupid enough to gingerly press their fingers on a smooth surface just so I can get their fingerprints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eakdown of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atent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a substance such as blood, ink, paint, dirt, or grease on the perpetrators hands leave a visible print behin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tent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visible and require dusting or other processing/lighting to revea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lastic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ccur when perpretrator touches a soft substance such as wax, putty, butter, or even dust. Seen as a 3D imag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atent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skin has openings called pores that are the location of perspiration of sweat and body oil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en you make contact with a surface your body oils stick to a surface in the shape of your finger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rints left with this technique at a crime scene are called latent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rint Typ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ree categories: Loops, Whorls, and Arch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65% of population has loop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0% has whorl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5% has arch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s characterized by ridge lines that enter from one side of the pattern and curve around to exit from the same side of the patter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Picture 5" descr="loop_fingerprint"/>
          <p:cNvPicPr/>
          <p:nvPr/>
        </p:nvPicPr>
        <p:blipFill>
          <a:blip r:embed="rId1"/>
          <a:stretch/>
        </p:blipFill>
        <p:spPr>
          <a:xfrm>
            <a:off x="4664160" y="1933560"/>
            <a:ext cx="383688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wo major Loop Typ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lnar Loop- loop opens toward the little fing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adial Loop- loop opens toward the thum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ingerprinting Lab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llow my verbal directions for this lab. You will have two days to complete this lab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Whorl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6416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s that include ridge patterns that are generally rounded or circular in shape and have two delta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5" descr="untitled"/>
          <p:cNvPicPr/>
          <p:nvPr/>
        </p:nvPicPr>
        <p:blipFill>
          <a:blip r:embed="rId1"/>
          <a:stretch/>
        </p:blipFill>
        <p:spPr>
          <a:xfrm>
            <a:off x="674640" y="2201760"/>
            <a:ext cx="3836880" cy="33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 distinct loop typ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lain- one ridge makes a complete circ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entral pocket loop- if two deltas do not touch on the circ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uble loop- two loops combined in one fingerpri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ccidental- the catch all category, if the print does not fall into any other categor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00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4640" y="1795320"/>
            <a:ext cx="782640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B0F-D820-4624-AD55-E588353046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0" name="Picture 2" descr="http://www.rock-hill.k12.sc.us/teachers/NWHS/jvenables/virtualcrimes/lady%20and%20the%20tramp/fingerprintbook4.BMP">
            <a:hlinkClick r:id="rId2"/>
          </p:cNvPr>
          <p:cNvPicPr/>
          <p:nvPr/>
        </p:nvPicPr>
        <p:blipFill>
          <a:blip r:embed="rId3"/>
          <a:srcRect l="0" t="0" r="0" b="15385"/>
          <a:stretch/>
        </p:blipFill>
        <p:spPr>
          <a:xfrm>
            <a:off x="762120" y="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www.rock-hill.k12.sc.us/teachers/NWHS/jvenables/virtualcrimes/lady%20and%20the%20tramp/FINGERPRINTBOOK1.JPG">
            <a:hlinkClick r:id="rId4"/>
          </p:cNvPr>
          <p:cNvPicPr/>
          <p:nvPr/>
        </p:nvPicPr>
        <p:blipFill>
          <a:blip r:embed="rId5"/>
          <a:srcRect l="0" t="0" r="0" b="8621"/>
          <a:stretch/>
        </p:blipFill>
        <p:spPr>
          <a:xfrm>
            <a:off x="1066680" y="3124080"/>
            <a:ext cx="2895840" cy="3230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rock-hill.k12.sc.us/teachers/NWHS/jvenables/virtualcrimes/lady%20and%20the%20tramp/fingerprintbook7.JPG"/>
          <p:cNvPicPr/>
          <p:nvPr/>
        </p:nvPicPr>
        <p:blipFill>
          <a:blip r:embed="rId6"/>
          <a:srcRect l="0" t="0" r="0" b="17827"/>
          <a:stretch/>
        </p:blipFill>
        <p:spPr>
          <a:xfrm>
            <a:off x="5867280" y="0"/>
            <a:ext cx="284796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www.rock-hill.k12.sc.us/teachers/NWHS/jvenables/virtualcrimes/lady%20and%20the%20tramp/fingerprintbook2.JPG"/>
          <p:cNvPicPr/>
          <p:nvPr/>
        </p:nvPicPr>
        <p:blipFill>
          <a:blip r:embed="rId7"/>
          <a:srcRect l="0" t="0" r="0" b="9763"/>
          <a:stretch/>
        </p:blipFill>
        <p:spPr>
          <a:xfrm>
            <a:off x="5334120" y="33526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629640" y="614988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5197680" y="6149880"/>
            <a:ext cx="29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in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24480" y="2438280"/>
            <a:ext cx="43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dental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673160" y="266688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Loop Whor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 that is characterized by ridge lines that enter the print from one side and flow out the other sid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1" name="Picture 5" descr="arch_fingerprint"/>
          <p:cNvPicPr/>
          <p:nvPr/>
        </p:nvPicPr>
        <p:blipFill>
          <a:blip r:embed="rId1"/>
          <a:stretch/>
        </p:blipFill>
        <p:spPr>
          <a:xfrm>
            <a:off x="4664160" y="1933560"/>
            <a:ext cx="383688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in arch- simplest of all prints, line enters on one side of print and exits the other si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ented arch- sharp spike in the center of th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5" name="Picture 2" descr="http://www.rock-hill.k12.sc.us/teachers/NWHS/jvenables/virtualcrimes/lady%20and%20the%20tramp/fingerprintremake.JPG"/>
          <p:cNvPicPr/>
          <p:nvPr/>
        </p:nvPicPr>
        <p:blipFill>
          <a:blip r:embed="rId1"/>
          <a:srcRect l="0" t="0" r="0" b="17165"/>
          <a:stretch/>
        </p:blipFill>
        <p:spPr>
          <a:xfrm>
            <a:off x="3048120" y="4038480"/>
            <a:ext cx="2209680" cy="249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rock-hill.k12.sc.us/teachers/NWHS/jvenables/virtualcrimes/lady%20and%20the%20tramp/fingerprintremake2.JPG"/>
          <p:cNvPicPr/>
          <p:nvPr/>
        </p:nvPicPr>
        <p:blipFill>
          <a:blip r:embed="rId2"/>
          <a:srcRect l="0" t="0" r="0" b="16522"/>
          <a:stretch/>
        </p:blipFill>
        <p:spPr>
          <a:xfrm>
            <a:off x="5791320" y="4097160"/>
            <a:ext cx="21668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Unchanging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milar friction ridges and minutiae can be found on the palms of the hand and on the fee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se skin characteristics were designed by nature to enhance our grip and resist slippag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se ridges and minutiae do not change throughout lif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rankenstein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an you change your fingerprints to prevent being caught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answer is NO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fingerprints are created during womb developm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can not ever change your finger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can damage or mutilate them, but that just makes you more uniqu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ini Case Stud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John Dillinger, also known as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Public Enemy Number One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went through much travesty to evade polic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 had facial reconstructive surgery and acid washed his prints in an effort to avoid arres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he was finally shot and taken to the morgue, prints taken at the morgue matched those on file alread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kin Layer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uter layer of skin: Epiderm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ner layer of skin: Derm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yer separating the 2 layers: papilla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9" name="Picture 5" descr="8912"/>
          <p:cNvPicPr/>
          <p:nvPr/>
        </p:nvPicPr>
        <p:blipFill>
          <a:blip r:embed="rId1"/>
          <a:stretch/>
        </p:blipFill>
        <p:spPr>
          <a:xfrm>
            <a:off x="4676760" y="232884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mation of FP’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 animal’s external body tissue (skin) is made up of an inner dermis and an outer dermi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P are created in a special layer between the two derma where new skin is produced (the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basal layer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P begin forming in the 10</a:t>
            </a:r>
            <a:r>
              <a:rPr b="0" lang="en-US" sz="24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week of pregnan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ecause the basal layer grows faster than the two derma, it collapses and forms intricate shap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ataly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amine your thumbs on both hands. Record any observations you have about both thumbprints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ermal Papilla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fingerprints are determined by the papillae lay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 order to alter your prints you must damage through the first layer of skin…ouch!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y not just wear glove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atomy of a FP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Picture 6" descr="fingerprint_definition"/>
          <p:cNvPicPr/>
          <p:nvPr/>
        </p:nvPicPr>
        <p:blipFill>
          <a:blip r:embed="rId1"/>
          <a:stretch/>
        </p:blipFill>
        <p:spPr>
          <a:xfrm>
            <a:off x="304920" y="1339920"/>
            <a:ext cx="8686800" cy="53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Minutiae"/>
          <p:cNvPicPr/>
          <p:nvPr/>
        </p:nvPicPr>
        <p:blipFill>
          <a:blip r:embed="rId1"/>
          <a:stretch/>
        </p:blipFill>
        <p:spPr>
          <a:xfrm>
            <a:off x="457200" y="-76320"/>
            <a:ext cx="8305920" cy="3302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ample Fingerprint"/>
          <p:cNvPicPr/>
          <p:nvPr/>
        </p:nvPicPr>
        <p:blipFill>
          <a:blip r:embed="rId2"/>
          <a:stretch/>
        </p:blipFill>
        <p:spPr>
          <a:xfrm>
            <a:off x="2797200" y="2819520"/>
            <a:ext cx="3375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int Classifi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nry System- adopted in 1901, looked at ridge patterns on all 10 fingers, but only accommodated 100,000 sets of print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mary Classification- divides all fingerprints in the world into 1024 categori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urns patterns into fract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/1 means that all of the fingers have the same patter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pproximately 25% of the population have 1/1 ratio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Uses of these system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0 finger system is only of use when the investigator has the names of the suspects on han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an be entered into a database and match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FI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uter database of all fingerprints in the countr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onitored by the FB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ows for electronic comparison of a latent print to a known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elps to identify suspec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FI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computer’s search determines the degree of correlation between the location and the relationship of minutiae of both the search and file print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or to AFIS, police had to compare prints by hand to known suspects from previous cases or that had been printed alread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atent Detail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isible Prints- made by touching fingers to a surface after the ridges have been in contact with colored material such as blood, ink, or pa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stic Prints- left on soft material such as putty, wax, soap or dus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atent Prints- transfer of by oils and can not be seen by the naked ey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usting for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owders are brushed onto a non-absorbent surface and will adhere to the oils left by the han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ray or Black powders are used to lift most all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pecialized clear tape known as lifting tape is used to store the print safel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uming for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posing a piece of evidence to fumes of super glue will expose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ither combine cotton cloth, sodium hydroxide and super glu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at the super glue to allow evapor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Quick Experim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have now seen your thumbprints as a positive imprin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you are seeing is known to members of the Forensics community as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riction Ridg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These lines are composed of valleys (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Grooves)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and hills (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riction Ridges)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When you see an inked print, you are seeing the pattern of the friction ridg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reserve the Pri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hotograph th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ver with cellophane tap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ce on latent print recovery car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ard should be a contrasting color to the color of the powder us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igital Imag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mputers can enhance and darken the print to make an easier image to rea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8" name="Picture 5" descr="untitled"/>
          <p:cNvPicPr/>
          <p:nvPr/>
        </p:nvPicPr>
        <p:blipFill>
          <a:blip r:embed="rId1"/>
          <a:stretch/>
        </p:blipFill>
        <p:spPr>
          <a:xfrm>
            <a:off x="4572000" y="1828800"/>
            <a:ext cx="407196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60" name="Picture 5" descr="mba0146l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Timeline of Fingerprint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B.C. China – documents showing negative images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792 – 1750 B.C. – Ancient Babylon used prints to identify sculptors of clay pottery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684 – Dr. Nehemiah writes a paper describing patterns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788, Johann Mayer notes individuality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823 – Jan Purkyn describes 9 print pattern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856 – Sir William Hershel noted that fingerprints do not change with age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88 – Galton and Henry develop classification system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91 – Ivan Vucetich made important changes to the collection process (10 digits, use cards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96 – Henry creates the 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ten card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and divided FP’s into modern group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15720"/>
            <a:ext cx="7607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arly Techniqu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lphonse Bertillon- system of precise body measurements (anthropometry)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Bertillon’s system rested on that body measurements never change after the age of 2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keleton sizes were thought to be so diverse that no two people could have the same measuremen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ystem included 11 measurements: outstretched arms, head length and width, left foot length, left little finger length, trunk height, body height, width and length of right ear, length of the left forearm, sitting heigh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He also documented hair color, eye color, and skin ton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thropometr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r twenty years, anthrompometry was thought to be the most accurate measurement system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nce police looked for a more efficient way to identify people, the fingerprinting system came through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oday, fingerprinting is the pillar of criminal identifi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Early use of Finger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cumentation of Chinese using FP’s to sign legal documents as far back as 3,000 years ag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ral years before Bertillon began work, FP’s were used in India to “bind” someone to a contrac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cottish physician, Henry Fauld, published papers on the potential application of FP’s to personal identifi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rancis Galton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892- published book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inger Print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 discussed the anatomy of fingerprints and suggested techniques for recording the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 also assigned fingerprint types: loops, whorls, and arch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is book demonstrated that no two prints are exactly alik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ints remain unchanged year after yea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07:24Z</dcterms:created>
  <dc:creator>Adam's Homepage</dc:creator>
  <dc:description/>
  <dc:language>en-US</dc:language>
  <cp:lastModifiedBy>Adam Goosby</cp:lastModifiedBy>
  <dcterms:modified xsi:type="dcterms:W3CDTF">2012-06-23T18:09:47Z</dcterms:modified>
  <cp:revision>22</cp:revision>
  <dc:subject/>
  <dc:title>Fingerprints</dc:title>
</cp:coreProperties>
</file>